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581BC-4976-4DB5-8D3E-CDE15FE45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3AD43-340C-4C9A-8CFC-56C717D1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848B0-FFE8-43BA-9E01-10AD73BB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9E2C-3710-4093-B6BF-2C855BCD5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0A249-AD32-48E4-84CD-20417E92E0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FDB11-7543-4548-8786-464996500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A4694-174C-43A4-8106-F01260CEF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4B66C-9855-4728-8321-DBCBBF889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1109A-FDF4-43D9-B59E-AFC92C50D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6BB67-034F-4D7C-A860-BF4FDB30A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FED7-2B2D-4134-BEF9-31B516869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B9C19-6EB7-4895-B893-53502934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8A31D-ABB4-42D1-9602-51D1CF58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2ACF0-FAE4-4717-ACA4-DBFB5468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243DA-A1D3-4049-AC5E-041BE6C3F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D05D9-1F7A-4B81-B7FE-ED0D3FEE0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5FFF7-8542-4BE4-AA7C-F65CAE1B9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CB66E-20E1-46AD-B944-5BDC49345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850B5-27E0-4998-B06A-1013D98AC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7147-72E4-45FD-8D64-F9CD963A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21F5-E4C5-47EC-820C-39B5C6AC2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F0795-8FC0-4F99-AEC1-437945B37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68A2-7651-4F06-8F97-054B20D4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36AA6-B7C7-4C6C-AE51-98C2FF660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F21B-0C08-437F-9BA7-6CC0D32CA45B}" type="slidenum">
              <a:rPr b="0" lang="en-NZ"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4021-1169-4491-BC40-767F75A7DEDA}" type="slidenum">
              <a:rPr b="0" lang="en-NZ"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txBox="1"/>
          <p:nvPr/>
        </p:nvSpPr>
        <p:spPr>
          <a:xfrm>
            <a:off x="468360" y="2133720"/>
            <a:ext cx="6265800" cy="208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onsumption</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57" name=""/>
          <p:cNvSpPr txBox="1"/>
          <p:nvPr/>
        </p:nvSpPr>
        <p:spPr>
          <a:xfrm>
            <a:off x="539640" y="1125360"/>
            <a:ext cx="8353440" cy="2808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cc00"/>
                </a:solidFill>
                <a:latin typeface="Arial Black"/>
              </a:rPr>
              <a:t>Positive Externality</a:t>
            </a:r>
            <a:endParaRPr b="1" lang="en-US" sz="4000" spc="1" strike="noStrike">
              <a:ln w="9360">
                <a:solidFill>
                  <a:srgbClr val="000000"/>
                </a:solidFill>
                <a:miter/>
              </a:ln>
              <a:solidFill>
                <a:srgbClr val="ffcc00"/>
              </a:solidFill>
              <a:latin typeface="Arial Black"/>
              <a:ea typeface="Arial Black"/>
            </a:endParaRPr>
          </a:p>
        </p:txBody>
      </p:sp>
      <p:pic>
        <p:nvPicPr>
          <p:cNvPr id="158" name="" descr=""/>
          <p:cNvPicPr/>
          <p:nvPr/>
        </p:nvPicPr>
        <p:blipFill>
          <a:blip r:embed="rId1"/>
          <a:stretch/>
        </p:blipFill>
        <p:spPr>
          <a:xfrm>
            <a:off x="1692360" y="4292640"/>
            <a:ext cx="6408720" cy="2565360"/>
          </a:xfrm>
          <a:prstGeom prst="rect">
            <a:avLst/>
          </a:prstGeom>
          <a:ln w="0">
            <a:noFill/>
          </a:ln>
        </p:spPr>
      </p:pic>
      <p:sp>
        <p:nvSpPr>
          <p:cNvPr id="159" name=""/>
          <p:cNvSpPr/>
          <p:nvPr/>
        </p:nvSpPr>
        <p:spPr>
          <a:xfrm>
            <a:off x="7164360" y="2852640"/>
            <a:ext cx="15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E.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 effect on Equity</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cause the subsidy is distributed evenly to everyone, no-one is worse off because of earnings, background etc it is considered fair, this means that the subsidy is horizontally  equitable.</a:t>
            </a:r>
            <a:r>
              <a:rPr b="0" lang="en-NZ"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t because everyone is getting the same amount of subsidy no matter of income it is Vertically inequitable as the poor spend a larger portion of there salary on education</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y Disadvantages on Equity </a:t>
            </a:r>
            <a:endParaRPr b="0" lang="en-US" sz="40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t is hard for the government to put a precise value on the subsidy as they do not have precise information of the MC/MB spill over benefi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mount each person receives also needs to be adjusted as the market changes over tim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nning an advertising campaign for such things as universities and poly techs will show potential students how great it is. Seeing this should encourage them to want to enroll in these places thus increasing education spend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Advertising Campaign</a:t>
            </a:r>
            <a:endParaRPr b="0" lang="en-US" sz="4400" spc="-1" strike="noStrike">
              <a:solidFill>
                <a:srgbClr val="ccecff"/>
              </a:solidFill>
              <a:latin typeface="Arial"/>
            </a:endParaRPr>
          </a:p>
        </p:txBody>
      </p:sp>
      <p:pic>
        <p:nvPicPr>
          <p:cNvPr id="185" name="" descr=""/>
          <p:cNvPicPr/>
          <p:nvPr/>
        </p:nvPicPr>
        <p:blipFill>
          <a:blip r:embed="rId1"/>
          <a:stretch/>
        </p:blipFill>
        <p:spPr>
          <a:xfrm>
            <a:off x="1476360" y="1233360"/>
            <a:ext cx="5832360" cy="4399200"/>
          </a:xfrm>
          <a:prstGeom prst="rect">
            <a:avLst/>
          </a:prstGeom>
          <a:ln w="0">
            <a:noFill/>
          </a:ln>
        </p:spPr>
      </p:pic>
      <p:sp>
        <p:nvSpPr>
          <p:cNvPr id="186" name=""/>
          <p:cNvSpPr/>
          <p:nvPr/>
        </p:nvSpPr>
        <p:spPr>
          <a:xfrm>
            <a:off x="0" y="56674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blue line represents the effect the advertising campaign will have on the SMB curve, as we can see by spending a little bit of money in advertising (small price increase) we get a greater rise in the number of education spending ( de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 effects on Efficiency</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impact on efficiency of an advertising campaign is that, if the government does not allocate too much money to advertising then there is a greater demand, but as they increase the amount they spend the demand increases at a diminishing rate. This maximizes societies well being as the money can be used for other thing that are beneficial to society.</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ertising Disadvantage on Efficiency</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of this is that it is hard for the government to put a precise value on the advertising as they do not have precise information of the SMC Curv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ertising effects on Equity</a:t>
            </a: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advertising scheme effects equity negatively as it does not allow everybody to spend money on education, it only encourages them. Because of this it is more likely that those who are wealthy or who are from a higher social status are likely to further there education because they are the ones who are able to afford it. This means that a advertising campaign is not very horizontally equitable.</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dvertising scheme is also vertically inequitable as only some students are eligible of furthering there education thus meaning the scheme is irrelevant to those not furthering there education</a:t>
            </a:r>
            <a:r>
              <a:rPr b="0" lang="en-US" sz="2800" spc="-1" strike="noStrike">
                <a:solidFill>
                  <a:srgbClr val="ffffff"/>
                </a:solidFill>
                <a:latin typeface="Verdana"/>
              </a:rPr>
              <a:t>.</a:t>
            </a:r>
            <a:r>
              <a:rPr b="0" lang="en-NZ"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commendation</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 recommend the policy of Subsidi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commendation because of Efficiency</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education is subsidized to the maximum the government will give, it maximizes societies well being.</a:t>
            </a:r>
            <a:r>
              <a:rPr b="0" lang="en-NZ"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commendation because of Equity</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cause the subsidy is distributed evenly to everyone, no-one is worse off because of earnings, background etc it is considered fair.</a:t>
            </a:r>
            <a:r>
              <a:rPr b="0" lang="en-NZ" sz="3200" spc="-1" strike="noStrike">
                <a:solidFill>
                  <a:srgbClr val="ffffff"/>
                </a:solidFill>
                <a:latin typeface="Verdana"/>
              </a:rPr>
              <a:t> It is horizontally equitable where as advertising is no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ducation</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Verdana"/>
              </a:rPr>
              <a:t>Education is a positive externality of consumption because it benefits society, the education increases the skill level of the society which leads to more innovation and thus greater growth of productivity leading to more output produced from a given amount of resourc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all Recommendation</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commend that if the government must choose one policy that I recommended the subsidy.</a:t>
            </a:r>
            <a:r>
              <a:rPr b="0" lang="en-NZ"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possible though it would be extremely beneficial to do both the subsidy and the advertising campaign, this would maximize education spending, although a disadvantage is that it may cost mo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76360" y="1341360"/>
            <a:ext cx="6121440" cy="4645080"/>
          </a:xfrm>
          <a:prstGeom prst="rect">
            <a:avLst/>
          </a:prstGeom>
          <a:ln w="0">
            <a:noFill/>
          </a:ln>
        </p:spPr>
      </p:pic>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P.E.C</a:t>
            </a:r>
            <a:endParaRPr b="0" lang="en-US" sz="4400" spc="-1" strike="noStrike">
              <a:solidFill>
                <a:srgbClr val="ccecff"/>
              </a:solidFill>
              <a:latin typeface="Arial"/>
            </a:endParaRPr>
          </a:p>
        </p:txBody>
      </p:sp>
      <p:sp>
        <p:nvSpPr>
          <p:cNvPr id="164" name=""/>
          <p:cNvSpPr/>
          <p:nvPr/>
        </p:nvSpPr>
        <p:spPr>
          <a:xfrm>
            <a:off x="539640" y="6093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Green section represents the DWL created by the spill ov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ket Failur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reason market failure occurs in a situation such as this is because by operating at the social equilibrium  rather than the free market creates Dead Weight Loss (DWL) this means the market is not efficiently allocating resour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licies </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bsid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vertising Campaig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ubsidies would mean that it would be easier for average households to get a better education as it will be subsidized, this allows them too have extra money to spend on other thing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 of Subsidy</a:t>
            </a:r>
            <a:endParaRPr b="0" lang="en-US" sz="4400" spc="-1" strike="noStrike">
              <a:solidFill>
                <a:srgbClr val="ccecff"/>
              </a:solidFill>
              <a:latin typeface="Arial"/>
            </a:endParaRPr>
          </a:p>
        </p:txBody>
      </p:sp>
      <p:sp>
        <p:nvSpPr>
          <p:cNvPr id="172" name=""/>
          <p:cNvSpPr/>
          <p:nvPr/>
        </p:nvSpPr>
        <p:spPr>
          <a:xfrm>
            <a:off x="430200" y="649116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blue line represents the new SMC curve after the subsidy</a:t>
            </a:r>
            <a:r>
              <a:rPr b="0" lang="en-NZ" sz="1800" spc="-1" strike="noStrike">
                <a:solidFill>
                  <a:srgbClr val="ffffff"/>
                </a:solidFill>
                <a:latin typeface="Verdana"/>
              </a:rPr>
              <a:t> </a:t>
            </a:r>
            <a:endParaRPr b="0" lang="en-US" sz="1800" spc="-1" strike="noStrike">
              <a:solidFill>
                <a:srgbClr val="ffffff"/>
              </a:solidFill>
              <a:latin typeface="Arial"/>
            </a:endParaRPr>
          </a:p>
        </p:txBody>
      </p:sp>
      <p:pic>
        <p:nvPicPr>
          <p:cNvPr id="173" name="" descr=""/>
          <p:cNvPicPr/>
          <p:nvPr/>
        </p:nvPicPr>
        <p:blipFill>
          <a:blip r:embed="rId1"/>
          <a:stretch/>
        </p:blipFill>
        <p:spPr>
          <a:xfrm>
            <a:off x="395280" y="1176480"/>
            <a:ext cx="6985080" cy="52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bsidy effect on Efficiency</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ducation is subsidized to the maximum the government will give it maximizes societies well being, thus meaning the subsidy is economically efficient.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it is subsidized then more students will become educated, this means that in the long term we will have a well educated labor force, which can increase efficiency and produce other important social benefi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bsidy Disadvantages on Efficiency</a:t>
            </a:r>
            <a:endParaRPr b="0" lang="en-US" sz="40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is that of providing education with a subsidy means that there is less money for the government to spend else where, this could distort the market as resources are not allocated efficientl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7T09:18:36Z</dcterms:created>
  <dc:creator>Greg </dc:creator>
  <dc:description/>
  <dc:language>en-US</dc:language>
  <cp:lastModifiedBy>Greg </cp:lastModifiedBy>
  <dcterms:modified xsi:type="dcterms:W3CDTF">2010-11-08T09:20:13Z</dcterms:modified>
  <cp:revision>13</cp:revision>
  <dc:subject/>
  <dc:title>Slide 1</dc:title>
</cp:coreProperties>
</file>